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6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8804C-8A89-446F-85DC-A2BC8E84EF3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52F7B-3816-483D-9F0F-697CCAA38E54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9A3C7D-72AA-4232-BA5A-DFAEF185323E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投影片編號版面配置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9AF32-2CFA-4A60-B78A-2EA1921FE108}" type="slidenum">
              <a:rPr b="0" lang="zh-TW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9E88-005E-4F6F-9DD8-F0CA4E824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EBE4-DDB9-4A86-9E5E-BD8908B33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025-7DED-4F63-BA34-D56385AFF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E16D-F9D0-49BF-85B8-74E81BEEB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9D3AF-3BFC-4811-86E5-70076F14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7B05-0C2E-40F3-B23D-AAF81B71B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81DC-34A5-4F7B-92C8-B4667C5E7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5B490-97A6-4249-ABB1-2C7AC2CC7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7349-2DF0-4B60-8EC2-A5E454383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F9A-6FAA-4687-BB3F-BAC403E88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EC9-3E4E-4023-B355-52B03324E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69AF-E5E3-4D18-BD91-56FABADC0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DFDB-4525-43AF-8E87-181C3165E4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D:\圖檔\20130704金山荷花田.jpg"/>
          <p:cNvPicPr/>
          <p:nvPr/>
        </p:nvPicPr>
        <p:blipFill>
          <a:blip r:embed="rId1"/>
          <a:srcRect l="11362" t="0" r="0" b="0"/>
          <a:stretch/>
        </p:blipFill>
        <p:spPr>
          <a:xfrm>
            <a:off x="0" y="-9360"/>
            <a:ext cx="9144000" cy="6867360"/>
          </a:xfrm>
          <a:prstGeom prst="rect">
            <a:avLst/>
          </a:prstGeom>
          <a:ln w="0">
            <a:noFill/>
          </a:ln>
        </p:spPr>
      </p:pic>
      <p:sp>
        <p:nvSpPr>
          <p:cNvPr id="49" name="文字方塊 1"/>
          <p:cNvSpPr/>
          <p:nvPr/>
        </p:nvSpPr>
        <p:spPr>
          <a:xfrm>
            <a:off x="901800" y="5842080"/>
            <a:ext cx="2472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14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夏荷讀書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字方塊 1"/>
          <p:cNvSpPr/>
          <p:nvPr/>
        </p:nvSpPr>
        <p:spPr>
          <a:xfrm>
            <a:off x="3355920" y="838080"/>
            <a:ext cx="2238120" cy="14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ffffff"/>
                </a:solidFill>
                <a:latin typeface="標楷體"/>
                <a:ea typeface="標楷體"/>
              </a:rPr>
              <a:t>圖書館報告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201406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ttp://163.20.181.11/Picture/%2F%AD%EC%A6%ED%A5%C1%C3%C0%AF%E0%AFZ%2F0990705%A4%E5%A4%C6%B0%D1%B3X--%A9_%AC%FC%B3%A1%B8%A8%A4%E5%A4%C6%A5%CD%AC%A1%C5%E9%C5%E7%C0%E7%A4%40/images/fullsize/990706109.JPG.JPG"/>
          <p:cNvPicPr/>
          <p:nvPr/>
        </p:nvPicPr>
        <p:blipFill>
          <a:blip r:embed="rId1"/>
          <a:srcRect l="8045" t="0" r="3069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文字方塊 1"/>
          <p:cNvSpPr/>
          <p:nvPr/>
        </p:nvSpPr>
        <p:spPr>
          <a:xfrm>
            <a:off x="1097280" y="457200"/>
            <a:ext cx="2081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奇美部落體驗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7/1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～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7/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rcRect l="12388" t="0" r="7108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文字方塊 1"/>
          <p:cNvSpPr/>
          <p:nvPr/>
        </p:nvSpPr>
        <p:spPr>
          <a:xfrm>
            <a:off x="1981080" y="57780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秋季新書準備中 </a:t>
            </a:r>
            <a:r>
              <a:rPr b="0" lang="en-US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8/1</a:t>
            </a:r>
            <a:r>
              <a:rPr b="0" lang="zh-TW" sz="3200" spc="-1" strike="noStrike">
                <a:solidFill>
                  <a:srgbClr val="ffffff"/>
                </a:solidFill>
                <a:latin typeface="標楷體"/>
                <a:ea typeface="標楷體"/>
              </a:rPr>
              <a:t>上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D:\圖檔\豐子愷.gif"/>
          <p:cNvPicPr/>
          <p:nvPr/>
        </p:nvPicPr>
        <p:blipFill>
          <a:blip r:embed="rId1"/>
          <a:stretch/>
        </p:blipFill>
        <p:spPr>
          <a:xfrm>
            <a:off x="2133720" y="11160"/>
            <a:ext cx="4960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3" descr="C:\Users\圖書館主任\Desktop\01030610 教師人文讀書會--櫻梅--玫瑰的名字\DSC05051.JPG"/>
          <p:cNvPicPr/>
          <p:nvPr/>
        </p:nvPicPr>
        <p:blipFill>
          <a:blip r:embed="rId1"/>
          <a:srcRect l="2841" t="0" r="0" b="0"/>
          <a:stretch/>
        </p:blipFill>
        <p:spPr>
          <a:xfrm>
            <a:off x="0" y="1563840"/>
            <a:ext cx="9144000" cy="5294160"/>
          </a:xfrm>
          <a:prstGeom prst="rect">
            <a:avLst/>
          </a:prstGeom>
          <a:ln w="0">
            <a:noFill/>
          </a:ln>
        </p:spPr>
      </p:pic>
      <p:sp>
        <p:nvSpPr>
          <p:cNvPr id="57" name="文字方塊 1"/>
          <p:cNvSpPr/>
          <p:nvPr/>
        </p:nvSpPr>
        <p:spPr>
          <a:xfrm>
            <a:off x="2774520" y="380880"/>
            <a:ext cx="3594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親愛的夥伴，我們不是分離，而是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標楷體"/>
                <a:ea typeface="標楷體"/>
              </a:rPr>
              <a:t>更開闊的方式手牽手，繼續愛我們的孩子與家園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C:\Users\admin\Desktop\first_day_of_summer_2013-1536005-hp.gif"/>
          <p:cNvPicPr/>
          <p:nvPr/>
        </p:nvPicPr>
        <p:blipFill>
          <a:blip r:embed="rId1"/>
          <a:stretch/>
        </p:blipFill>
        <p:spPr>
          <a:xfrm>
            <a:off x="325440" y="1998720"/>
            <a:ext cx="8534520" cy="3917880"/>
          </a:xfrm>
          <a:prstGeom prst="rect">
            <a:avLst/>
          </a:prstGeom>
          <a:ln w="0">
            <a:noFill/>
          </a:ln>
        </p:spPr>
      </p:pic>
      <p:sp>
        <p:nvSpPr>
          <p:cNvPr id="59" name="文字方塊 1"/>
          <p:cNvSpPr/>
          <p:nvPr/>
        </p:nvSpPr>
        <p:spPr>
          <a:xfrm>
            <a:off x="3567240" y="9144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000" spc="-1" strike="noStrike">
                <a:solidFill>
                  <a:srgbClr val="333399"/>
                </a:solidFill>
                <a:latin typeface="標楷體"/>
                <a:ea typeface="標楷體"/>
              </a:rPr>
              <a:t>敬祝暑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User</dc:creator>
  <dc:description/>
  <dc:language>en-US</dc:language>
  <cp:lastModifiedBy>User</cp:lastModifiedBy>
  <dcterms:modified xsi:type="dcterms:W3CDTF">2014-06-26T00:59:44Z</dcterms:modified>
  <cp:revision>3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